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25D-DB48-4285-9F9F-FE8484B0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B62-1B70-48B8-9F86-36BD6E57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F11-87B4-4136-BD01-3CEEC9E0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8C2-3C01-42A5-88E8-2B773725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8661-DC51-4607-B9D6-B600DAA6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8E36-C552-4D14-8860-54E742CB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16C0-6A04-4D05-AC9B-C56E43EB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C505-981E-4E41-97D3-27709DB5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07BF-9CEF-454F-A842-4B6E8655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5DC2-53EC-4760-AC86-270285C3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9DB2-E7D9-4BB6-9396-F758318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A9B-9F65-4B80-90E5-19F46802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2B83-1BB1-40CA-8C68-6E8FBD8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0C51-2ECA-4A90-B1E3-E4905AE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87E4-4E12-486E-B559-57DDD10B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8120-4455-4C81-A71A-8C848614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257F-8229-4C5F-B562-3AA2E89B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501-86C4-4293-B321-39C3CF4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851-86EA-44BE-A767-E641D834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0BF-D30C-4EB0-99F8-E1530BD3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744-681D-43E5-B068-5BF39CA2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41F-6723-4367-BF90-5AE3A4B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DEA-484D-4461-9096-304DDD8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E07-92EE-4A76-9182-BBBA9F44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530C-20FC-47E3-AD28-9CB487A41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923-9445-4035-91C9-B7CD0C3D0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«Происхождение     человека»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мушева Екате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Жили они в основном в пещерах и умели использовать огонь. Одновременно существовало довольно много форм древнейших людей, стоявших на разных ступенях развития и эволюционировавших в разных направлениях( в том числе в направлении гигантизма ). Наиболее перспективным направлением эволюции было дальнейшее увеличение объема головного мозга, развитие общественного образа жизни, совершенствование орудий труда, более широкое использование огня. Все другие формы, в том числе гиганты, быстро исчез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Древние люди (неандертальцы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К древним людям относят новую группу людей, появившихся около 200 тыс. лет назад. Они занимают промежуточное положение между древнейшими людьми и первыми современными людьми. </a:t>
            </a:r>
            <a:r>
              <a:rPr b="0" i="1" lang="en-US" sz="2800" spc="-1" strike="noStrike">
                <a:solidFill>
                  <a:srgbClr val="66ff33"/>
                </a:solidFill>
                <a:latin typeface="Arial"/>
              </a:rPr>
              <a:t>Неандертальцы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были очень неоднородной группой. Изучение многочисленных скелетов показало, что в эволюции неандертальцев при всем разнообразии строения можно выделить две ли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58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1680" y="152280"/>
            <a:ext cx="85406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дна линия шла в направлении мощного физического развития. Это существа с низким скошенным лбом, низким затылком, сплошным надглазничным валиком, слабо развитым подбородочным выступом, крупными зубами. При небольшом росте (155-165см) они обладали чрезвычайно мощно развитой мускулатурой. Масса мозг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достигала  1500г. Полагают, что неандертальцы пользовались членораздельной реч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30492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Другая группа неандертальцев характеризовалась более тонкими чертами – меньшими надбровными валиками, высоким лбом, более тонкими челюстями и развитым подбородком. В общем физическом развитии они заметно уступили первой группе. Но взамен у них значительно увеличился объем лобных долей головного мозга. Эта группа неандертальцев боролась за существование  не путем усиления физического развития, а через развитие внутригрупповых связей при охоте, при защите от врагов, от неблагоприятных природных условий, т. е. через объединение сил различных особей. Этот эволюционный путь и привел к появлению 40-50 тыс. лет назад вида Человек разумный-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Homo sapiens.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1680" y="1523880"/>
            <a:ext cx="8540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екоторое время неандертальцы и первые современные люди сосуществовали, а затем, примерно 28 тыс. лет назад, неандертальцы были окончательно вытеснены первыми современными людьми –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кроманьонцами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Кроманьонцы были высокого роста</a:t>
            </a: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 до 180 см, с высоким лбом, объем черепной коробки достигал 1600 см. Сплошной надглазничный валик отсутствовал. Они владели членораздельной речью, о чем свидетельствует хорошо развитый подбородочный выступ и хорошо развитый мозг. Эволюция человека вышла из-под ведущего контроля биологических факторов и приобрела социальный характер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7699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ff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оложение человека в системе животного мир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мбриональном развитии человека есть черты, характерные для всех представителей типа Хордовые: это хорда, нервная трубка на спинной стороне зародыша, жаберные щели в глотке. Развитие позвоночного столба, наличие двух пар конечностей, местонахождение сердца на брюшной стороне тела определяют принадлежность человека к подтипу Позвоночных. Четырехкамерное сердце, сильно развитая кора головного мозга, теплокровность, млечные железы, волосы на поверхности тела, зубы трех видов свидетельствуют о принадлежности человека к классу млекопит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Развитие плода в теле матери и питание его через плаценту характерно для подкласса Плацентарных. Такие признаки, как конечности хватательного типа, ногти на пальцах, хорошо развитые ключицы, замена молочных зубов на постоянные в процессе онтогенеза, рождение, как правило, одного детеныша определяют положение человека в отряде Приматов. Более частые признаки - редукция хвостового отдела позвоночника, аппендикс, большое число извилин на полушариях головного мозга, четыре основные группы крови, развитие мимической мускулатуры и ряд других, позволяют отнести человека к подотряду Человекообразных обезьян.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коло 30 млн. лет назад появились небольшие животные, жившие на деревьях и питавшиеся растениями и насекомыми. Их челюсти и зубы были такими же, как у человекообразных обезьян. От них произошли гиббоны,  орангутаны и вымершие впоследствии древесные обезьяны – дриопитеки. Дриопитеки дали три ветви, которые привели к шимпанзе, горилле и </a:t>
            </a: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человеку.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 Происхождение человека от обезьян, ведущих древесный образ жизни, предопределило особенности его строения, которые в свою очередь явились анатомической основой его способности к труду и дальнейшей социальной эволю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30492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Arial"/>
              </a:rPr>
              <a:t>Решающим шагом на пути от обезьяны к человеку явилось прямохождение. Одна из групп обезьян, обитавших 12 млн. лет назад, дала начало,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Arial"/>
              </a:rPr>
              <a:t>Эти животные, ископаемые остатки которых найдены в Южной Африке, получившие название </a:t>
            </a:r>
            <a:r>
              <a:rPr b="0" i="1" lang="ru-RU" sz="2800" spc="-1" strike="noStrike">
                <a:solidFill>
                  <a:srgbClr val="00cc99"/>
                </a:solidFill>
                <a:latin typeface="Arial"/>
              </a:rPr>
              <a:t>Австралопитеки,</a:t>
            </a:r>
            <a:r>
              <a:rPr b="0" lang="ru-RU" sz="2800" spc="-1" strike="noStrike">
                <a:solidFill>
                  <a:srgbClr val="00cc99"/>
                </a:solidFill>
                <a:latin typeface="Arial"/>
              </a:rPr>
              <a:t> жили стадами, имели массу до 50 кг и рост до 150 см. Они ходили на двух ногах при выпрямленном положении тела. В отличие от всех обезьян строение зубной системы у них было сходно с человеческой. Масса мозга составляла 550 г, а руки были свобод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Однако, около 2 млн. лет назад жили существа, более близкие к человеку, чем австралопитеки. Они имели массу мозга до 650 г, умели обрабатывать гальку с целью изготовления орудий. Эти человекообразные обезьяны получили название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Человек умелый.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Эволюция австралопитеков шла в направлении прогрессивного развития прямохождения, способности к труду и совершенствованию головного мозга. Естественный отбор сохранял признаки, содействовавшие развитию стадности, т.е. усилению общественного характера поисков добычи и защиты от хищных зверей, что в свою очередь влияло на совершенствование руки и на развитие высшей нерв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533520"/>
            <a:ext cx="8510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адии эволюции челове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знаком, отделяющим человекообразных обезьян от людей, считается масса мозга, равная 750 г. Именно при такой массе мозга овладевает речью ребе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750"/>
                            </p:stCondLst>
                            <p:childTnLst>
                              <p:par>
                                <p:cTn id="1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В процессе становления человека выделяются три стад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1) древнейшие люд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2)древние люд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3) современные лю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80880" y="-572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Древнейшие люд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читают, что древнейшие люди возникли около 1 млн. лет назад. Известно несколько форм древнейших людей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итекантроп, синантроп, гейдельбергский челове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яд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угих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ешне они уже походили на современного человека, хотя отличались мощными надглазничными валиками, отсутствием подбородочного выступа, низким и покатым лбом. Масса мозга достигала 1000 г. Мозг имел более примитивное строение, чем у позднейших фор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ита</cp:lastModifiedBy>
  <dcterms:modified xsi:type="dcterms:W3CDTF">2011-03-14T12:59:44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